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F0B-2C4E-4D61-83D9-2EE01EE9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6DF-9BE5-465E-B768-8815CF00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C20-AA62-4715-80DA-387208DE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399-7D2F-408F-8F2C-9F6CE85F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11C-DAC2-4DDE-B979-1C89338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ABF1-6D96-483D-A1D5-24BDE846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953-F230-4551-AC4E-D4FDA1A6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A98-5D2B-4DA6-AF93-01D938A9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4AA-0230-4032-A171-18CE34E2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039-09A9-4A14-8EF0-CE4DA428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CA7-C59F-4713-84B2-154AFA9B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9A5-603C-4A7C-9630-A0EA7D05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39C9-0664-4951-80E9-4E7F32CDF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8120" y="1828800"/>
            <a:ext cx="2752560" cy="36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-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5a3</cp:lastModifiedBy>
  <dcterms:modified xsi:type="dcterms:W3CDTF">2012-06-12T14:10:07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